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849725"/>
        <c:axId val="7250334"/>
      </c:barChart>
      <c:catAx>
        <c:axId val="768497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0334"/>
        <c:crosses val="autoZero"/>
        <c:auto val="1"/>
        <c:lblAlgn val="ctr"/>
        <c:lblOffset val="100"/>
        <c:noMultiLvlLbl val="0"/>
      </c:catAx>
      <c:valAx>
        <c:axId val="72503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497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6D28-3C00-4D34-B475-B0B15049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9DC-D635-40FF-B227-6884A9D6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7CB0-8105-43A3-AACA-329A3F8C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8E51-A372-453C-A026-318CE783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B6C6-1927-4824-9AF9-BF5C1F7B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FB04-9766-43F0-A2D5-39037387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3107-637C-4C4B-9FD0-C07A68DE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D4CF-B09F-4114-8337-7025598A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B646-FB30-48CD-8BA3-8D2C1A9E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FDFD-6D33-450D-BE2B-A7CD72F1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532F-E5AC-4A9C-A0D5-BD3C6365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D786-C15F-4A95-BE9B-D0C41590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A9918-25DA-4034-ADEE-84B234CF99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