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00324"/>
        <c:axId val="4524666"/>
      </c:barChart>
      <c:catAx>
        <c:axId val="84600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666"/>
        <c:crosses val="autoZero"/>
        <c:auto val="1"/>
        <c:lblAlgn val="ctr"/>
        <c:lblOffset val="100"/>
        <c:noMultiLvlLbl val="0"/>
      </c:catAx>
      <c:valAx>
        <c:axId val="4524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00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32-93B2-4A31-9FE2-04AECFAD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05D-17F3-44A4-B38C-E3918E7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431-5E25-4485-8316-20317D8D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2B7-5914-4118-853E-D47ED369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47D-8994-48E7-8510-7AEB2B4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958-4B9A-4FB7-9037-796B9161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70D-AE00-4222-AAB7-6AA33A26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558-AEF4-4865-B427-40EA01F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B39-2E29-4521-A11E-C76796BD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897-BC84-48F3-9F7E-2F6CB76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F9C-09C1-423A-A152-B63B6695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0BF-762C-4ABA-963A-3CC3F1D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34D22-0CF2-4DA6-9873-8071A646B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