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483208"/>
        <c:axId val="92466080"/>
      </c:barChart>
      <c:catAx>
        <c:axId val="164832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66080"/>
        <c:crosses val="autoZero"/>
        <c:auto val="1"/>
        <c:lblAlgn val="ctr"/>
        <c:lblOffset val="100"/>
        <c:noMultiLvlLbl val="0"/>
      </c:catAx>
      <c:valAx>
        <c:axId val="924660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832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6DB9-3891-4231-9422-45586B709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3415-B217-440D-86DD-CDD3FABA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9725-69C0-41E1-A6A1-5B8706FF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3134-B071-4554-940C-BAE34F67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186A-193F-44AE-94D9-272563EC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C78A-57FE-40A8-A3D8-28594A50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2A13-7D89-47A8-8168-99924C7B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039E-BBF7-4928-92D8-EE7E0A37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916F-AA20-48AC-B85F-C5970AF9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5391-5746-4ACC-9433-3F83B1F5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8674-A9EC-4927-882E-9886822A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DFD2-9408-4869-AA17-66DBEE16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5F373-FA85-4C95-89D5-EB8A41A318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