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9698046"/>
        <c:axId val="32206511"/>
      </c:barChart>
      <c:catAx>
        <c:axId val="9969804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2206511"/>
        <c:crosses val="autoZero"/>
        <c:auto val="1"/>
        <c:lblAlgn val="ctr"/>
        <c:lblOffset val="100"/>
        <c:noMultiLvlLbl val="0"/>
      </c:catAx>
      <c:valAx>
        <c:axId val="3220651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69804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1E17D-7361-43DC-9ADA-317F847AD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86E4F-588D-4D63-8A3F-534A77182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C7DCB-2F5B-4654-BEAA-D7F22F26B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25AE9-6E47-498F-A14F-B5A6A5AA8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598C3-1E82-4795-8CDC-58BE5E20E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C0D6B-F22F-429D-BA29-27A01D32C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BD88E-7B46-4F90-A0D3-8EB06B6BC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854F0-6735-42B1-A54D-194531955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B66B6-C44A-4640-92C1-AADE7CB7D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488B8-37B1-4E28-BCED-3E9AD9034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AD242-AF2C-4CD6-82B1-4A2A559D4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F0B51-4B69-4A0D-B542-7C67C4781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676E04-3216-4EF0-8863-96823139E57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