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49680"/>
        <c:axId val="99365412"/>
      </c:barChart>
      <c:catAx>
        <c:axId val="8674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65412"/>
        <c:crosses val="autoZero"/>
        <c:auto val="1"/>
        <c:lblAlgn val="ctr"/>
        <c:lblOffset val="100"/>
        <c:noMultiLvlLbl val="0"/>
      </c:catAx>
      <c:valAx>
        <c:axId val="99365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4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169-6D5D-4A23-BBF1-035CD8DF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BF2C-14E5-4B8C-87C9-7E809157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9C0-62C8-4E72-8C6E-536A789C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865C-E385-4825-BD03-39DC936C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CB4-BF29-43FA-ADDB-284A5484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D61-AF23-44BD-8915-E4BCB3AC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808-9130-4921-99BE-33F52775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DEEB-E62C-4BB6-A4EE-6FDCA17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9A0-449B-42B7-A916-1CCC515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2A3-73D6-4A81-AD71-6285F461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C25-B465-4158-A702-A086A190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06D-55A4-40AD-B680-52C67277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13E2-1DAE-414C-9582-5368BACD54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