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040666"/>
        <c:axId val="79511388"/>
      </c:barChart>
      <c:catAx>
        <c:axId val="930406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11388"/>
        <c:crosses val="autoZero"/>
        <c:auto val="1"/>
        <c:lblAlgn val="ctr"/>
        <c:lblOffset val="100"/>
        <c:noMultiLvlLbl val="0"/>
      </c:catAx>
      <c:valAx>
        <c:axId val="79511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406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71D3-EC11-4EA7-B352-87880D37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32A5-DE78-4A2F-BEB0-5E1EA60B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4071-7180-4625-9A1C-07261E91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CAF0-1223-407E-BEDB-F1C471069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3748-041D-4BA6-893F-5D17D10F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2B22-D002-451E-AFC4-DE1E74DC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C752-7946-4621-9046-E4218BB3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1046-1703-4F0F-9344-CFFC1011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257A-7ABE-4823-93F7-A21643D3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205D-D0CC-41F8-B590-B7D37B66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83A-77F4-4C39-AAFC-6AE39212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B03F-A7E2-472E-9FD8-1C760AF9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80258-1D89-4C57-87D1-E0D1158C68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