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78424"/>
        <c:axId val="36453323"/>
      </c:barChart>
      <c:catAx>
        <c:axId val="88878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3323"/>
        <c:crosses val="autoZero"/>
        <c:auto val="1"/>
        <c:lblAlgn val="ctr"/>
        <c:lblOffset val="100"/>
        <c:noMultiLvlLbl val="0"/>
      </c:catAx>
      <c:valAx>
        <c:axId val="36453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78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F58-C327-4B06-8B52-510D6B61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11D-8008-457C-95C3-F7D323B6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A61-E035-48F2-A7FB-6FFB74E8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A77-FD09-4CC2-86E7-D801050A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A11-EF05-4DB2-BBFC-6D449E8C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6EA-E85A-45FF-9E2B-0A2E60F7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5EC-9F33-47E3-AC26-42E3C205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C76-B748-403B-88AD-2C5F38E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5FB-8BF2-4E3A-B0A9-2E55AB76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56D-9BD5-4220-8BBC-D6B490B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66D-2C3D-440B-A031-9890C8A0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E51-8E80-4DCE-87B2-E838D0DF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8B22C-3504-485A-84F5-826126A825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