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30775"/>
        <c:axId val="5632403"/>
      </c:barChart>
      <c:catAx>
        <c:axId val="89330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2403"/>
        <c:crosses val="autoZero"/>
        <c:auto val="1"/>
        <c:lblAlgn val="ctr"/>
        <c:lblOffset val="100"/>
        <c:noMultiLvlLbl val="0"/>
      </c:catAx>
      <c:valAx>
        <c:axId val="5632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30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11A-8FE0-4EB5-8007-46DD57B0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088-04D4-4ECB-BFD9-A01891C9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A87-F7E1-4117-9386-B97B9C39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93B-EBDB-40A5-BA3E-83699DBC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B5A-29B5-4687-94A8-3C039F5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055-5057-4F05-A6A6-512B6B24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86D-BFE5-4BD2-8C6D-ED408AB6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FFB-8035-4A7F-8A3C-E10671C7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487-0D11-4CCC-B328-3087954A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898-9CE4-426F-9B14-639AB5E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94B-35B8-456E-94EB-710B3C8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20C-5CBA-4526-9B18-5CCB7F14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AFE8B-E499-43BF-BF3D-75453A1BAF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