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41544"/>
        <c:axId val="67301429"/>
      </c:barChart>
      <c:catAx>
        <c:axId val="40241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01429"/>
        <c:crosses val="autoZero"/>
        <c:auto val="1"/>
        <c:lblAlgn val="ctr"/>
        <c:lblOffset val="100"/>
        <c:noMultiLvlLbl val="0"/>
      </c:catAx>
      <c:valAx>
        <c:axId val="67301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1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35C-5F5D-40B5-9572-437CAA96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A0D-4F16-4DAE-9630-5644FFD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BDA-D622-4FFB-949B-6393FF71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A2D-DE8B-4C4F-BED7-D4014B0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D60-36F7-434F-8AF0-42A5DA3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4D4-ECC5-456E-AFAA-36F2037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4BD-2293-4E96-8BD2-AE772DC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B7D-CD75-4426-AB9E-D7053831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A84-2520-4B3E-BB0F-79724E7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45-3DC3-4BBD-A089-F8060ED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B6C-CFAC-409C-8E87-172AE62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C73-1F3E-4769-AAEA-7F7FA0F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5A018-DAAB-4E98-8122-C6F88C703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