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75465"/>
        <c:axId val="85416052"/>
      </c:barChart>
      <c:catAx>
        <c:axId val="29775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16052"/>
        <c:crosses val="autoZero"/>
        <c:auto val="1"/>
        <c:lblAlgn val="ctr"/>
        <c:lblOffset val="100"/>
        <c:noMultiLvlLbl val="0"/>
      </c:catAx>
      <c:valAx>
        <c:axId val="85416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75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15E-256C-4240-BCBB-C7729C25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798-B283-476D-9398-33F70795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90E-CC1F-4EE5-89BE-A260F97E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641-CD84-4553-86AE-8078E527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795-04F7-421D-8ACF-4411BFAD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643-85C4-41C3-B667-63113A14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057-774B-46CA-AD59-18BF9FB5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F9B-B483-45C2-8ACE-923DFD68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D15-ABC7-4A33-B691-817574EE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B92-2C5B-4F15-94C1-A7C466A0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74A-3902-49A0-93B7-0290539F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1CC-8400-4E3F-BDBF-D9F869D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2FBC9-80EA-4668-81C4-DB7D116F13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