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61483"/>
        <c:axId val="24957752"/>
      </c:barChart>
      <c:catAx>
        <c:axId val="33961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57752"/>
        <c:crosses val="autoZero"/>
        <c:auto val="1"/>
        <c:lblAlgn val="ctr"/>
        <c:lblOffset val="100"/>
        <c:noMultiLvlLbl val="0"/>
      </c:catAx>
      <c:valAx>
        <c:axId val="249577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61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143-CCDE-480C-91FE-93820365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CF7-840E-4236-B1E6-A658E407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3F6-2D4A-47AB-ABF3-2DDA96FB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E357-BC9F-490E-BAD6-06B5A36D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614-88B3-453C-9D12-B7D57A28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96C-63EE-409E-9757-E2DAC9DF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4FA-D901-4368-85E8-4AFEE26C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715-445E-4283-B4AE-1AB73F36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15D-EC78-40E4-B13C-759B3E06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365-D0EA-4E98-BE21-A9B8B4E6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B7D5-71FE-4B7E-9823-05CDF15B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DE25-9C18-47D0-BF91-7AEC35CE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E96E2-9C70-4FAB-AED4-1E60FB023F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