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315513"/>
        <c:axId val="40074149"/>
      </c:barChart>
      <c:catAx>
        <c:axId val="633155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074149"/>
        <c:crosses val="autoZero"/>
        <c:auto val="1"/>
        <c:lblAlgn val="ctr"/>
        <c:lblOffset val="100"/>
        <c:noMultiLvlLbl val="0"/>
      </c:catAx>
      <c:valAx>
        <c:axId val="400741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3155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6319-D8BC-4839-B506-34AFEFCC8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032F-EB0B-4AE7-93EF-C70504C42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FBAE-87A8-441A-B1FE-E7F96DCCB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E839-A503-43DB-BED0-111324017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BD2E-28C0-4637-B103-E80DC11AB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2789-FB5B-41B9-A8B4-CD8467028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D53C-B09B-49A5-9767-9337AC4B0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7C04-C5AD-48EE-A9E8-3E76839C2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525A-0A48-4475-880F-6458B85B2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170D-06CD-43AD-A15B-7C5E56C0D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C2AB-8EF5-4A87-99C4-86D0E184B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FAC2-E810-4C8D-84C5-C8795374C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17618A-8770-4415-B661-F70FE9ED348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