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973008"/>
        <c:axId val="70817797"/>
      </c:barChart>
      <c:catAx>
        <c:axId val="279730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17797"/>
        <c:crosses val="autoZero"/>
        <c:auto val="1"/>
        <c:lblAlgn val="ctr"/>
        <c:lblOffset val="100"/>
        <c:noMultiLvlLbl val="0"/>
      </c:catAx>
      <c:valAx>
        <c:axId val="708177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730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19A0-1F70-4E53-A728-09362099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7399-4CF2-490A-A38C-E3F405C3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BB26-58E6-447E-AA8D-EE87F3B3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D3B6-6327-4944-865C-69896270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815F-DEF4-4AC8-9ED2-117BE20D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16B0-559E-48DA-B1FB-720A40FB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1EA0-447B-4A18-BEBF-F7247B40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A1FD-0648-477F-8FE1-9711504E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F89F-7E5B-4ED8-B3FD-FEC632D1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C70A-56E1-461A-88E1-0EF1DC51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81AA-BCA6-4BDF-B04A-633C1DC9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652A-DDC1-4853-84B9-32140444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F9FE1-7194-4BD6-987C-9F415EF5E1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