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2102"/>
        <c:axId val="38282850"/>
      </c:barChart>
      <c:catAx>
        <c:axId val="1073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2850"/>
        <c:crosses val="autoZero"/>
        <c:auto val="1"/>
        <c:lblAlgn val="ctr"/>
        <c:lblOffset val="100"/>
        <c:noMultiLvlLbl val="0"/>
      </c:catAx>
      <c:valAx>
        <c:axId val="38282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32C-00C9-4C57-8329-3AE2917A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55C-F8D5-475D-93CF-F57466A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828-4589-42EF-AEC9-C59020D4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158-504B-4CF2-8828-71636975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A6D-9B74-4FD7-9417-03AF428A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516-1667-4439-A21A-C669C21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F25-24F7-4D67-9A0E-69659BA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D3B-1A7A-40AD-A66F-70E626A2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697-FAA0-4B20-A8D2-FF48A63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ECF-C0AD-45FA-8796-A94FB859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6A9-9F93-4134-B341-26E8CB7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C75-908D-48C5-B1AE-092C968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44C8-86D7-4B1A-9C4B-A1E5F042AB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