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927"/>
        <c:axId val="82469503"/>
      </c:barChart>
      <c:catAx>
        <c:axId val="1119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9503"/>
        <c:crosses val="autoZero"/>
        <c:auto val="1"/>
        <c:lblAlgn val="ctr"/>
        <c:lblOffset val="100"/>
        <c:noMultiLvlLbl val="0"/>
      </c:catAx>
      <c:valAx>
        <c:axId val="82469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B58-3A2A-4426-A129-5B74EFE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B99-A951-46CB-9879-C6DBD979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B91-5DF4-4580-A885-FA3492C2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747-E812-4994-85BB-1955D126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03E-7A69-4511-BEEB-C92FFAC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3E4-0C54-44F6-BD2C-EDFF1EB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105-DE93-4337-9884-BD69B833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933-80F8-4BB5-BED8-7156A0DB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9C1-EA5C-48ED-A3D1-E492C49A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263-C069-4C0C-884A-19DA437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D8-138A-4797-8349-CEC59BA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0BE-66E8-45B9-A579-757CB90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357E7-3AB6-4F04-BE68-F12989FE61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