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34169"/>
        <c:axId val="16808890"/>
      </c:barChart>
      <c:catAx>
        <c:axId val="47934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8890"/>
        <c:crosses val="autoZero"/>
        <c:auto val="1"/>
        <c:lblAlgn val="ctr"/>
        <c:lblOffset val="100"/>
        <c:noMultiLvlLbl val="0"/>
      </c:catAx>
      <c:valAx>
        <c:axId val="16808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4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E37-E2FE-4ED9-9224-06C28057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5DC-6256-4924-81AF-FB19EEC4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4E5-D11F-47FC-AE13-78F304C6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966-5A3D-4547-A462-9AED3B4B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EDD-B877-46C5-BF55-4B6A98F1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FE7-F3FF-4FEF-8A3F-ACE5DE71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2D9-3BF7-4001-BC46-C7CF8C6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980-CEA8-4FB4-B30B-88FF7BE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D8F-FF60-4568-AE8F-ECEEC6B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D4B-B6E5-4864-AD16-6EB2A08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E57-0758-4A78-80C9-9B529BB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15B-19B4-47D9-9F88-AE61FD7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FC529-BE6A-49C9-8102-B5AEB88A6B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