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524750"/>
        <c:axId val="61802473"/>
      </c:barChart>
      <c:catAx>
        <c:axId val="345247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02473"/>
        <c:crosses val="autoZero"/>
        <c:auto val="1"/>
        <c:lblAlgn val="ctr"/>
        <c:lblOffset val="100"/>
        <c:noMultiLvlLbl val="0"/>
      </c:catAx>
      <c:valAx>
        <c:axId val="618024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247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A8F1-197B-4D5D-A71C-E64ED41D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8270-9EBC-41A9-B496-BC17CA96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A4DE-FF5A-40E1-923C-D0F44563C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010E-EB04-459E-9B7C-E2F426FB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319B-EBA0-4508-AF45-23E0A347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5313-A6F9-4B3B-9444-B7DECA08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6A5D-7692-4647-A66A-7E972510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E363-14C3-4DCD-822F-269AAC95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B84C-C811-475F-BB7C-F2D76779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CCA8-5065-4D43-8EC0-2F2D0FAA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9AF0-F4DA-4E0D-8FCE-2B37DDCE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854E-AC6B-4FF3-863A-A8296242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AC10F-7A96-44CD-BF59-3C2C494447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