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91335"/>
        <c:axId val="25620371"/>
      </c:barChart>
      <c:catAx>
        <c:axId val="68591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20371"/>
        <c:crosses val="autoZero"/>
        <c:auto val="1"/>
        <c:lblAlgn val="ctr"/>
        <c:lblOffset val="100"/>
        <c:noMultiLvlLbl val="0"/>
      </c:catAx>
      <c:valAx>
        <c:axId val="25620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91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DB0-036D-4CCA-99A2-9FA70822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9E5-BB46-49BF-94DD-FA25849F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BC8-F853-4EBE-A9BA-07E1E780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359-3936-4B73-B4BE-0A4379B9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50B-5DD4-4B5F-AE4F-DD31A57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6EE-2291-4B30-89C6-5495BC0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1B9-A1C8-4E84-B403-D12EAD5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CAF-735A-4005-B007-944DD3DC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64C-6538-46E9-A417-566E4D68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4DD-3D95-4AE6-934A-FB15A0F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7F4-870F-4DD0-8FCF-F48BE88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69B-981A-47AD-9958-1E9D6599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B6135-9423-43E5-87D7-B97F4D9999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