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80638"/>
        <c:axId val="34400211"/>
      </c:barChart>
      <c:catAx>
        <c:axId val="317806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00211"/>
        <c:crosses val="autoZero"/>
        <c:auto val="1"/>
        <c:lblAlgn val="ctr"/>
        <c:lblOffset val="100"/>
        <c:noMultiLvlLbl val="0"/>
      </c:catAx>
      <c:valAx>
        <c:axId val="34400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806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B3A-05ED-44F2-9973-0D609D05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8F8-9B70-4E6C-BF37-1BF6D948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BDC-0A0F-4AAB-94A5-304391E5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81B4-0F9F-4404-9105-10CB3BFE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1BE-425E-4A3D-8606-A42E4B46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8922-70E0-4FEC-97C3-4B5628DC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8C0F-3258-4778-A376-2A8E5476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08C-1875-462D-BF60-0190A046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073-967A-49B5-AB77-C1D51F86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522-14BE-40BA-BA18-2B852464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A47-DB49-4ADC-9AC6-F2A05704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05F-2C74-4FB9-8A37-B4EB3AFF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00B84-0FBF-4D1E-A119-A2976CBCE1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