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691668"/>
        <c:axId val="1292178"/>
      </c:barChart>
      <c:catAx>
        <c:axId val="236916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92178"/>
        <c:crosses val="autoZero"/>
        <c:auto val="1"/>
        <c:lblAlgn val="ctr"/>
        <c:lblOffset val="100"/>
        <c:noMultiLvlLbl val="0"/>
      </c:catAx>
      <c:valAx>
        <c:axId val="12921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6916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3563-E71B-49FB-984B-CF5E3AD35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8D16-25B2-4E71-AB43-3DC8A524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9423-95E5-4E72-B733-D7B88DE0F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860B-C9BC-48A4-8208-A589C05CB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4CDA-AB89-4D7F-A410-E71045EE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0D23-FBC9-45C9-B7D6-C26880AB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7D03-27CB-48F3-AEF8-E384C4BB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668A-AC4C-42C5-B171-4DC97345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358F-8F4F-4676-B3FB-2B5B651D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8409-DF39-4F8F-94C4-7C025B2D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345E-AEFC-4A91-9535-2E5B353E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8313-8766-4036-9384-C7FDD175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53CD93-A075-439C-A344-EBA9235830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