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30734"/>
        <c:axId val="87987187"/>
      </c:barChart>
      <c:catAx>
        <c:axId val="11430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7187"/>
        <c:crosses val="autoZero"/>
        <c:auto val="1"/>
        <c:lblAlgn val="ctr"/>
        <c:lblOffset val="100"/>
        <c:noMultiLvlLbl val="0"/>
      </c:catAx>
      <c:valAx>
        <c:axId val="87987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30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A45-715E-43D1-B3AE-43BCE639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509-AC81-42FB-B9DB-C9EF75F1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6AE-75F7-4285-A288-325AA1D2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438-3A8F-4F03-91A4-B1EDBCD4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BD7D-507C-456B-A242-B54D86E9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DCB-35F4-4B84-A0CC-FBAA1E17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9FE-BCDC-4584-91A9-6952C98B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042-7466-48E0-BD2B-52AB723F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AAB-4E2E-495C-9F03-CBC08892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B96-E046-4D62-A0FD-A00A6E6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C7D-851C-4FAB-BC2E-D15A6296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4BA-F4E4-4C68-9C49-C37D78B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965E4-CFB2-45A3-B48E-4514BB82A1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