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61894"/>
        <c:axId val="60093682"/>
      </c:barChart>
      <c:catAx>
        <c:axId val="76961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3682"/>
        <c:crosses val="autoZero"/>
        <c:auto val="1"/>
        <c:lblAlgn val="ctr"/>
        <c:lblOffset val="100"/>
        <c:noMultiLvlLbl val="0"/>
      </c:catAx>
      <c:valAx>
        <c:axId val="60093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61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0CE-6CC1-4DC8-B7E0-AF84B361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962-76A2-4E8A-AD62-B830DDD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C77-B519-4A4D-A27F-7AB3C7D2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CFA-9D04-47D9-9EF1-6BC07FE0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3D7-683D-44E1-9CE7-9042688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B29-7A67-4E47-AC6A-0C2FC53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B0C-5E43-4A4C-816F-AF24344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D9B-9218-47BD-BA5D-A450A330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7C0-86A8-48BB-BBF0-9B7A52C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AB5-23FE-414D-94D3-A9BC003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7DE-1042-4D6D-A22C-FAEEF650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8B6-14D4-4B2E-B137-910A6AE9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B90D-9F76-46FA-AEB0-4AEBC99675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