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7709"/>
        <c:axId val="63395177"/>
      </c:barChart>
      <c:catAx>
        <c:axId val="57377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95177"/>
        <c:crosses val="autoZero"/>
        <c:auto val="1"/>
        <c:lblAlgn val="ctr"/>
        <c:lblOffset val="100"/>
        <c:noMultiLvlLbl val="0"/>
      </c:catAx>
      <c:valAx>
        <c:axId val="63395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77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BC86-DB45-4248-85A0-9ECAE22E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DC38-D189-4897-A820-BB66B712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C0A8-06C6-44B0-B66A-934B7C54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A07-26C6-4469-8AE9-3A309CD3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E2A-C1EB-424D-9ED2-85D70158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23E6-E7F7-435E-9715-5BCF08F6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188-6FE6-45CA-9B66-44642ED2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3852-2F4A-4840-826A-809E4CA0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A04-7C95-43C7-96B4-DCC0ED2C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C96D-337C-4B1D-B819-FA30C476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B25-30F6-4796-85A4-8C20A78E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91C-0557-4CE6-9A75-D95E6E77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60D30-18E0-49BB-AF84-7853097F5F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