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01827"/>
        <c:axId val="92762411"/>
      </c:barChart>
      <c:catAx>
        <c:axId val="59001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62411"/>
        <c:crosses val="autoZero"/>
        <c:auto val="1"/>
        <c:lblAlgn val="ctr"/>
        <c:lblOffset val="100"/>
        <c:noMultiLvlLbl val="0"/>
      </c:catAx>
      <c:valAx>
        <c:axId val="92762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01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A94-4D06-4ACC-86B3-F79A4F5F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F2A-F2D6-465C-AA3D-12D85B53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6E5-0938-44B0-89BD-93C7D073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0FF-2B68-4F43-90E5-E780365D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2AE-ACF4-4CC8-A4AE-4A0B90B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2FC-1C68-4C02-A4D8-3629FE59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F88-4416-4B9D-9D44-F5043BD0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6E1-5B0C-4192-8A54-6C46A688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B05-6BEF-4987-8B19-5E8503D8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733-2ECE-4A06-9C6E-363D6A3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4A6-1CF2-4671-B4DF-8E3E25C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345-1783-4768-BC64-3D9158BA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4CD0F-FB60-422B-99FD-5494BFD6C1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