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39821"/>
        <c:axId val="92548435"/>
      </c:barChart>
      <c:catAx>
        <c:axId val="67639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8435"/>
        <c:crosses val="autoZero"/>
        <c:auto val="1"/>
        <c:lblAlgn val="ctr"/>
        <c:lblOffset val="100"/>
        <c:noMultiLvlLbl val="0"/>
      </c:catAx>
      <c:valAx>
        <c:axId val="92548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39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BAF-D5CA-41D9-B4B4-644CD3D7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96D-68EB-4351-B4AC-8845B36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945-BEDF-44B8-B3E1-E9EAF43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D3D-15B5-4A65-935B-5A358FA6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BCF-9740-429C-8C22-0959CD4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41B-E35E-46B3-BDA0-D312A22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8D5-A40E-48DA-9B96-246DF2D3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6CB-1599-4397-BB20-19D8DD0D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C18-92EE-4923-836E-FBC209F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BB6-EF3B-4F2B-AE1D-0FA5237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57E-2092-44DC-96B8-A5D66AE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329-2EFD-4545-8F8D-71DD367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197E-CA01-443C-8E4B-F0C5B6885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