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50418"/>
        <c:axId val="86331960"/>
      </c:barChart>
      <c:catAx>
        <c:axId val="33250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31960"/>
        <c:crosses val="autoZero"/>
        <c:auto val="1"/>
        <c:lblAlgn val="ctr"/>
        <c:lblOffset val="100"/>
        <c:noMultiLvlLbl val="0"/>
      </c:catAx>
      <c:valAx>
        <c:axId val="86331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50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620-4F0B-4121-A1AC-1D95395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469-764C-4957-AA86-0F62306C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88A-9AB8-459B-B3CC-9E1B82CB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245-BD66-4352-95D3-21CBD391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717-598A-4BCC-8836-E7CC46F6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1AC-FAF9-480C-ABE7-AA253D0C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D35-1139-4ECA-8E95-97F33BD7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D5F-2AF0-48FD-A7B0-CD9D384F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7D9-47CE-490A-B831-1114B6CE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230-2922-4870-AB1E-C23381C2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E90-46B0-4079-9CA3-AF6C0A6A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2EE-3F25-476F-8C79-4FE9E738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CBC11-CC53-448B-9CA2-42F50B3CE4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