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95315"/>
        <c:axId val="72458827"/>
      </c:barChart>
      <c:catAx>
        <c:axId val="56895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58827"/>
        <c:crosses val="autoZero"/>
        <c:auto val="1"/>
        <c:lblAlgn val="ctr"/>
        <c:lblOffset val="100"/>
        <c:noMultiLvlLbl val="0"/>
      </c:catAx>
      <c:valAx>
        <c:axId val="72458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95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016-71D8-4F08-ADE6-E610300A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99E-0917-4D67-A731-433B6357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E58-FC76-4BBC-AFC8-2DD47B46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F7E-D153-4C9C-9436-98617E31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020D-5F04-4B3A-AE64-BAE64C79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917-9F25-451D-BA64-AD6498F5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064-49C4-45CE-8C26-1BC9B77A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E57A-6624-45FB-8330-328DFF9B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5FA9-E31F-42DC-B79F-DCA6901C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C54-6F3A-4399-A4BC-E785B406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E6AF-8CF2-43F2-8129-089CB7E5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A79-0BFE-4A13-8D41-B481119E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6856A-D643-46D0-B05B-C4BE1667D0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