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41811"/>
        <c:axId val="5407005"/>
      </c:barChart>
      <c:catAx>
        <c:axId val="753418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7005"/>
        <c:crosses val="autoZero"/>
        <c:auto val="1"/>
        <c:lblAlgn val="ctr"/>
        <c:lblOffset val="100"/>
        <c:noMultiLvlLbl val="0"/>
      </c:catAx>
      <c:valAx>
        <c:axId val="5407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418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027-7C75-41A6-8581-CC26AB0F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4414-16D2-4D09-A8AF-15DA9020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1B1-A156-4337-8052-C7D66A23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77CF-04E1-4372-9B39-6FB145FA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A49-432B-42DF-81C7-A6402139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D6C-ABF1-4E95-9E16-965E0BE4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182-FEA1-4A44-8A54-66DD7EDB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E7E-2542-4D7D-B6DA-72182902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86ED-4EF5-46E5-9464-431D114E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0EDE-8AEE-4E71-B31B-4DAD8523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D6F7-E591-4871-A8DC-45B4D61C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A7BC-055D-4C6A-A61E-0D94A3D0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CEA63-E4AD-48C3-897E-222AA071A7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