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8847"/>
        <c:axId val="4335835"/>
      </c:barChart>
      <c:catAx>
        <c:axId val="7398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5835"/>
        <c:crosses val="autoZero"/>
        <c:auto val="1"/>
        <c:lblAlgn val="ctr"/>
        <c:lblOffset val="100"/>
        <c:noMultiLvlLbl val="0"/>
      </c:catAx>
      <c:valAx>
        <c:axId val="4335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8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78E-8774-4B65-A936-5D142D46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672-690D-4DAC-8804-80E32EFC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62F-5FC6-42D5-93D3-5FF63950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907-7BBF-4444-9528-B2C5C035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DE3-F61D-4E94-A556-D3E1C79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9EB-286E-4A3C-B9B7-E7281EB8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A84-8CFE-42A2-A4E5-C27F0E9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07A-08AC-487D-8E02-A1BD8EB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B5E-6706-4EDE-BDDB-27BD2C8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408-A4F5-4EDE-BF06-4F52054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532-A121-4210-BDF6-4C912D7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FF3-49CC-4DBA-9EC3-5AEB6DD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34509-5154-4A28-84BD-7663CAB5B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