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19850"/>
        <c:axId val="32051748"/>
      </c:barChart>
      <c:catAx>
        <c:axId val="17219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51748"/>
        <c:crosses val="autoZero"/>
        <c:auto val="1"/>
        <c:lblAlgn val="ctr"/>
        <c:lblOffset val="100"/>
        <c:noMultiLvlLbl val="0"/>
      </c:catAx>
      <c:valAx>
        <c:axId val="32051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19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AD9-F73D-45D3-A9B7-BA61416B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A8C-38B2-4546-9D8E-C7C8466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BC7-669E-46BF-804E-034410E7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06A-B426-4C38-A07F-45D84274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C8F-8DF3-444B-904E-539145D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3B6-ECB1-47EF-AA9A-DA6CD34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E3A-07D0-4037-9C02-88D75BB3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CB6-5D3A-4E5B-BEFD-A0D1316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6B8-59B2-41F2-97DA-57DEA1A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8DB-1207-495D-9408-5BCDF66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7AD-F13F-4FF8-A7FE-660684C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1BC-9FB5-41F7-B5AC-A558C38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4318C-5FF2-4CCA-97AB-4E833130A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