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62678"/>
        <c:axId val="25825880"/>
      </c:barChart>
      <c:catAx>
        <c:axId val="65962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25880"/>
        <c:crosses val="autoZero"/>
        <c:auto val="1"/>
        <c:lblAlgn val="ctr"/>
        <c:lblOffset val="100"/>
        <c:noMultiLvlLbl val="0"/>
      </c:catAx>
      <c:valAx>
        <c:axId val="25825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62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7BB7-D2C9-4CEA-9538-EAD1DC2E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CF4-38F0-48D6-9DED-2B30A544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B7E-723C-4E5A-8AE8-0B386C36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5E9-DBC7-4E41-9819-77C93A21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A6F-41BA-4FBC-B890-E6DA36A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C62-8F65-4E59-81C4-7D4CDB3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160-B37C-4659-A129-28A6F9F2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E06-10BE-4843-8673-7A62F74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E1C-6219-473B-93E7-D3CBC379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E02-0A84-47CD-B26B-9EADC65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58F-1EAF-47F9-8E55-1CB2AAB6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97B-0237-469C-9210-2929315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E0064-B468-4E17-802B-668A69527D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