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26020"/>
        <c:axId val="43461555"/>
      </c:barChart>
      <c:catAx>
        <c:axId val="75026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61555"/>
        <c:crosses val="autoZero"/>
        <c:auto val="1"/>
        <c:lblAlgn val="ctr"/>
        <c:lblOffset val="100"/>
        <c:noMultiLvlLbl val="0"/>
      </c:catAx>
      <c:valAx>
        <c:axId val="43461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26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7E5-306B-432D-A673-7B91FF56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61E-549E-40D0-BC9A-160B7118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A78-DE7B-45F6-B8EE-C2AE378C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70B-4C76-4552-BA10-D81AABFF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DA8-DF81-4E50-8434-4797ADA8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6B0-8033-402A-8904-F6B96935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A07-7CB0-424A-B8B2-C5D6DC81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E23-E3D7-4725-A5F0-EC0F80D7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AF1-5766-4E3B-B557-D6C008E2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563-AB45-4097-B6CC-91AA536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4A1-D90A-4EDD-A5E0-B555B5C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2F7-7647-4584-BC42-D356B156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39BA5-F597-47D9-A0A0-D86B9A4BC5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