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83561"/>
        <c:axId val="30428844"/>
      </c:barChart>
      <c:catAx>
        <c:axId val="89283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28844"/>
        <c:crosses val="autoZero"/>
        <c:auto val="1"/>
        <c:lblAlgn val="ctr"/>
        <c:lblOffset val="100"/>
        <c:noMultiLvlLbl val="0"/>
      </c:catAx>
      <c:valAx>
        <c:axId val="30428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83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E65-B958-4C6D-A07D-960164DD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63D-FBBF-458D-BD44-DFF80760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9D4-3F98-4452-8AF5-D368F3B6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03F-4DBC-45DF-8D1A-B22177BF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168-D737-431B-A84A-CDAB476B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A2B-0F9E-447B-84D9-B08F8176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FD1-3981-4C79-89F7-3545162A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985-B90A-45FB-835E-55754ED9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7DB-06F4-4807-A339-0087FDFF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BB2-E925-4D01-A00C-84DF8D07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33B-C4DB-4104-9DEF-3FE3315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03C-D7E8-42ED-9FD5-AFF79E4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25A68-387C-4281-ADAA-C4811D36A2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