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56960"/>
        <c:axId val="77810155"/>
      </c:barChart>
      <c:catAx>
        <c:axId val="35856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10155"/>
        <c:crosses val="autoZero"/>
        <c:auto val="1"/>
        <c:lblAlgn val="ctr"/>
        <c:lblOffset val="100"/>
        <c:noMultiLvlLbl val="0"/>
      </c:catAx>
      <c:valAx>
        <c:axId val="77810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6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800-53B1-425E-81FE-6D380EC7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975-E1CF-4E44-BFE1-AB8E6D15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01A-9D2D-4E43-BC25-58E999D0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3EC-C14C-4200-B619-69747A9E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4DC-BDCA-4B09-91C3-24FC5A23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919-B356-4419-BC38-BA8ABB77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2D6-7100-487C-819F-B74968DD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024-7D16-46BB-B4A0-C6C1F93C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1F7-9FB9-4336-B9B4-2D711F7C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90E-237E-40D6-B26E-6995DDA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E9D-AE6E-4751-9DD4-E6CA7C4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9E8-4C2E-4D2D-BBB7-6A9A503C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F62B2-C62A-4141-AA7D-6A57272580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