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3290"/>
        <c:axId val="18125191"/>
      </c:barChart>
      <c:catAx>
        <c:axId val="8923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25191"/>
        <c:crosses val="autoZero"/>
        <c:auto val="1"/>
        <c:lblAlgn val="ctr"/>
        <c:lblOffset val="100"/>
        <c:noMultiLvlLbl val="0"/>
      </c:catAx>
      <c:valAx>
        <c:axId val="18125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3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51C-9B08-44D8-9048-91DEC9A3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C01-5AEC-4E0F-98EC-4542579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CA5-A521-4233-ADCC-C07416E3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EC4-ED0E-4C76-A655-AF39EBE8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EBB-A71F-426F-95F3-B07C595A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EDA-5EA6-425F-B975-ACD46681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B2C-333B-43C6-81A9-61D892F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665-2217-4151-881E-E36DBAD3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111-A820-47F6-A254-97D505FA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9E4-D5E5-4FE2-9C59-B5AF1F7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F07-18D1-4459-96A7-3BC5333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90D-0A77-4B78-A8D8-6FD9CDB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B6304-DDC1-4EB5-B7C9-ACDB01D1F7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