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98087"/>
        <c:axId val="96022193"/>
      </c:barChart>
      <c:catAx>
        <c:axId val="20998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22193"/>
        <c:crosses val="autoZero"/>
        <c:auto val="1"/>
        <c:lblAlgn val="ctr"/>
        <c:lblOffset val="100"/>
        <c:noMultiLvlLbl val="0"/>
      </c:catAx>
      <c:valAx>
        <c:axId val="96022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98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872-1902-46C8-AA89-74A24FBF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51B-4998-4D6F-84FF-B4FCD3CC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C3B-C1BF-49DD-A344-FE20B6C0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667-925E-4DEB-844D-B046A467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4CD-EAE6-4986-91CB-C0751D78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04A-2078-4807-B3CF-15BBA412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8D6-4E4A-42A9-9477-12E83092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ED7-1CAC-4447-8752-9A3A1266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4D5-7E89-4F7C-BEE7-ECAE215F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5B7-08E5-407E-9D7D-A11864C9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D81-C271-4E4A-99E5-BB86463B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E27-7694-4333-82F8-72E3716E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07D68-942A-4BFE-A7F7-7F8CB3F509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