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0660"/>
        <c:axId val="69388489"/>
      </c:barChart>
      <c:catAx>
        <c:axId val="7490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88489"/>
        <c:crosses val="autoZero"/>
        <c:auto val="1"/>
        <c:lblAlgn val="ctr"/>
        <c:lblOffset val="100"/>
        <c:noMultiLvlLbl val="0"/>
      </c:catAx>
      <c:valAx>
        <c:axId val="69388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0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BD8-0461-4AF9-B2A9-CE6548E3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418-105A-4769-83BC-C79AA511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EA5-86FE-4936-94D4-50A313FF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79D-103A-464F-8858-22E128D4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75F-135B-49CE-A2C7-2F7045D7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532-A715-42A8-A398-EE0BF3CC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A99-27BD-4C86-BCD6-775C6CAA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9AC-039D-4581-BF37-EA395E87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79B-79A3-4C6F-95FC-DCD32315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E87-8E7F-4593-ADC9-C69DBB7C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1BB-32DA-4D7A-AC7E-A85B843E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534-183E-4E32-9E93-2E1C55A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0E822-965A-48E0-931E-74B25902C1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