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92615"/>
        <c:axId val="8913132"/>
      </c:barChart>
      <c:catAx>
        <c:axId val="38992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3132"/>
        <c:crosses val="autoZero"/>
        <c:auto val="1"/>
        <c:lblAlgn val="ctr"/>
        <c:lblOffset val="100"/>
        <c:noMultiLvlLbl val="0"/>
      </c:catAx>
      <c:valAx>
        <c:axId val="8913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92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4D7-39B1-4D82-9D62-8EDB7BBF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051-8782-42A8-8419-ADE13D0B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AD0-B9DF-49D1-B871-C7C9D48F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EC6-9DB3-4CC7-98FF-BCB478F6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2F5-183E-4F18-AF2A-FF12DAE1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C24-FDF5-4DF8-9CFF-300483A1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F8C-5671-449D-B1E2-C4AD02E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05E-D44D-44DB-8BE6-98CB1EF8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F9A-9107-4637-BF67-578324C9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76C-E212-4DFD-ADA2-58659925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46D-A4E1-4060-9C22-3A9B18A9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B33-11EF-4B67-97FD-3E603E7C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7DD9E-49F8-4C93-BA2B-DBE03E7151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