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4492"/>
        <c:axId val="13470655"/>
      </c:barChart>
      <c:catAx>
        <c:axId val="93744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70655"/>
        <c:crosses val="autoZero"/>
        <c:auto val="1"/>
        <c:lblAlgn val="ctr"/>
        <c:lblOffset val="100"/>
        <c:noMultiLvlLbl val="0"/>
      </c:catAx>
      <c:valAx>
        <c:axId val="134706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44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D06-EFC2-4556-BF9E-D2620A5E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5AA-96B0-4066-BFE2-C186B701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647-6D3F-4FB8-A8A6-C57664D4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339-6F9A-49A9-9913-9DCE9E30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6ACF-94EE-497E-A38E-D0F54BFF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2DF-35F3-48E8-86CE-90E35344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0B1-20B3-4CE0-9A40-FBD50581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E77F-45D2-41E7-B4BE-44D69F6D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5F31-9610-4CAB-A817-C13C2918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2AF-E8C0-423B-8B91-514F6515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E3DC-2DE3-4EFA-9D0C-2F6CA0A7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01B-E710-4480-9340-51C3D806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FDA8B-3BA3-4BBC-8F0C-29A2394914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