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2791416"/>
        <c:axId val="41997156"/>
      </c:barChart>
      <c:catAx>
        <c:axId val="3279141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997156"/>
        <c:crosses val="autoZero"/>
        <c:auto val="1"/>
        <c:lblAlgn val="ctr"/>
        <c:lblOffset val="100"/>
        <c:noMultiLvlLbl val="0"/>
      </c:catAx>
      <c:valAx>
        <c:axId val="4199715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279141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35DB0-F8D2-4CF5-8DA0-D018A5291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455A8-7411-4F12-BF39-66C47A7B3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B4183-D391-4087-A2EB-F61AF6817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A71C9-D032-4844-84C5-6AEB6ACB9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DAF70-3067-4657-BE7A-0638B914C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685FE-CDF3-4A0B-90A5-F19C4045F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D4625-19CD-4428-B287-FF1CDC9E3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FE9AF-06AD-4749-A109-4DD1B4B00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983B1-DABB-4A16-8E4E-4D6872A64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7EDE0-8DD4-4B0A-BE15-B5E94B2C6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91AC8-159A-4A90-B2B0-C51D32ADF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40874-926F-4249-9194-8F5C92B4B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C5DBA9-6FEF-4F62-B435-FAC77675698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