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41073"/>
        <c:axId val="73090886"/>
      </c:barChart>
      <c:catAx>
        <c:axId val="779410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90886"/>
        <c:crosses val="autoZero"/>
        <c:auto val="1"/>
        <c:lblAlgn val="ctr"/>
        <c:lblOffset val="100"/>
        <c:noMultiLvlLbl val="0"/>
      </c:catAx>
      <c:valAx>
        <c:axId val="73090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410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2D6-990F-4EB1-9982-70A8988F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BAA-E986-45B8-B855-22EFD3F7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9C9-65CD-4A65-9200-615ED1DB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283-170B-4ACB-802E-2D25166F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FAD-CCD7-457B-9373-18365E29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185E-9B37-476B-A5E4-2D4CA4CB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2F3-8A7F-4452-B7B3-12D9AE51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CD8-22F7-47C2-968E-AD89C8FD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6D13-FD06-4BF5-B3A3-C2C5E47B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E8D-ADB2-4158-A0AD-9F1D49DE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063A-F4BE-4FBF-83EC-BA9D6CBF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DAB-2763-4CFF-A482-FF8D2443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7C3CC-AE61-4C2C-B4EF-B9BFF211C1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