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271710"/>
        <c:axId val="18126542"/>
      </c:barChart>
      <c:catAx>
        <c:axId val="312717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126542"/>
        <c:crosses val="autoZero"/>
        <c:auto val="1"/>
        <c:lblAlgn val="ctr"/>
        <c:lblOffset val="100"/>
        <c:noMultiLvlLbl val="0"/>
      </c:catAx>
      <c:valAx>
        <c:axId val="181265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2717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E859-1FC0-47FB-87B7-2A836942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14C7-1A97-4259-BC95-BCE97159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5789-D4CA-483A-A8D6-348F9B8A7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734C-67BD-4895-84CB-0AF41F033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5E2D-A5B7-444D-8A99-2D9C392F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CF0C-6F54-4AF3-AB83-84E1DAD6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18BC-F77A-40D8-B36B-541290EE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8AE7-C6A4-4A2F-B583-AC359E65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679E-AE48-423C-A289-01671FB4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F7C0-4365-4114-9CA1-CB783361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5031-0CF9-4133-9F6A-062FB6A0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1500-1587-443B-80B9-DB134A01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F35677-C131-4965-A328-17DE760072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