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2245621"/>
        <c:axId val="40445428"/>
      </c:barChart>
      <c:catAx>
        <c:axId val="8224562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0445428"/>
        <c:crosses val="autoZero"/>
        <c:auto val="1"/>
        <c:lblAlgn val="ctr"/>
        <c:lblOffset val="100"/>
        <c:noMultiLvlLbl val="0"/>
      </c:catAx>
      <c:valAx>
        <c:axId val="4044542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24562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0664C-5962-4EDC-9FDE-5DFDF77DC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AEBDB-51F0-4150-8E1D-E6BBDCC9A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61926-8518-4EA1-8E9B-AA52AAF0D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E5A77-AD1E-4C59-AEC8-A543C3BE2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987D3-925E-43BB-855C-DAB4A4916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F857B-8318-49F8-B3E2-792299479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1FD77-5241-4EDF-BBB0-37828675B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BCDCD-D3B3-4ED3-B9CF-7002A00D2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71053-9DC7-42E3-8FCE-D6584F616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528A2-29E7-4E8E-81D3-D48C8373C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8DF4F-FE13-4CF9-BE6C-AE2D77B17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C2563-B4CE-4059-8CB7-7BBB1F9ED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DC3DE1-F3AA-434E-A4B5-BA5AF835CE6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