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0816"/>
        <c:axId val="84219691"/>
      </c:barChart>
      <c:catAx>
        <c:axId val="1810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19691"/>
        <c:crosses val="autoZero"/>
        <c:auto val="1"/>
        <c:lblAlgn val="ctr"/>
        <c:lblOffset val="100"/>
        <c:noMultiLvlLbl val="0"/>
      </c:catAx>
      <c:valAx>
        <c:axId val="84219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0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7B1-ACEC-4EF8-9F95-3502EE6A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D06F-0AF5-404B-96F0-EA617077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DEE6-13D7-4DC7-B6E6-320FA15C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C19-322D-4668-A0BD-C20F07A8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BEA-5B6D-49BA-9875-53E0B08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076D-EED9-48EC-ACE1-515D724E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A4A-F464-40D8-905B-99445C2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F0D-48C8-4767-AB28-ACE41C61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82F-0E35-46D1-8BE1-8472F405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0B8-C21F-4D01-9361-A96BA8A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9F66-8CE3-469D-8FD7-06064D2B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B2D-537F-4009-8014-C1D7903C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2F801-6DC6-433D-A7EE-4C4E599A1B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