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071521"/>
        <c:axId val="18257174"/>
      </c:barChart>
      <c:catAx>
        <c:axId val="520715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257174"/>
        <c:crosses val="autoZero"/>
        <c:auto val="1"/>
        <c:lblAlgn val="ctr"/>
        <c:lblOffset val="100"/>
        <c:noMultiLvlLbl val="0"/>
      </c:catAx>
      <c:valAx>
        <c:axId val="182571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715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0B87-E80C-4021-82AF-D8DF1A2BD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92A7-262F-4CB2-8BA8-5D837A70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8E48-8679-4CBD-88F6-98C809566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FBF6-2D2D-4B3A-BE67-44F79EBD1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A8C8-36BF-462B-8010-AE637E1B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1D73-DE4B-4285-8E43-0E237CDD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27A6-E568-4A1C-987F-5D6CCE51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D3E9-0231-4A01-9F89-45157964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BBF9-AF87-41AD-A2FD-6375A266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9114-61D7-4535-A688-FA510BC7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8A49-081D-4ACA-B6D3-BDDABE68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86A5-2CCD-4802-8034-C54F6624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08EF1-8C58-4327-B94A-D29731CDAF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