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51045"/>
        <c:axId val="8474885"/>
      </c:barChart>
      <c:catAx>
        <c:axId val="51051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4885"/>
        <c:crosses val="autoZero"/>
        <c:auto val="1"/>
        <c:lblAlgn val="ctr"/>
        <c:lblOffset val="100"/>
        <c:noMultiLvlLbl val="0"/>
      </c:catAx>
      <c:valAx>
        <c:axId val="8474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51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4B8-0C06-4717-8AA6-75709A94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4E5-2FE7-498D-922C-AF5B6A85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B8A-6C23-47B0-AAF4-5A5DBE81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313-18EC-486A-A89E-0705ADAD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791-63E7-425E-AAD4-FE1C7E11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9FC-7414-4130-882C-0F191632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435-C45B-46D9-AB32-53D98F2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978-A718-4E3D-AA48-3283E62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47C-67C3-463B-822F-4B82210B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FCF-201B-4892-A2E0-EDAA8F9F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0E5-DBBA-49D4-8DF4-4EBCC75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2E9-3584-4251-8F94-7FA9996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C6035-1FF3-4614-BF0F-9212C0C74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