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20297"/>
        <c:axId val="96440295"/>
      </c:barChart>
      <c:catAx>
        <c:axId val="42820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40295"/>
        <c:crosses val="autoZero"/>
        <c:auto val="1"/>
        <c:lblAlgn val="ctr"/>
        <c:lblOffset val="100"/>
        <c:noMultiLvlLbl val="0"/>
      </c:catAx>
      <c:valAx>
        <c:axId val="96440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20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8D5-6B40-4BD7-AF1E-A66DAE92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8F9-109A-4A44-AACD-49BBCE32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849-3BE8-479C-85EC-4EE71C2A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4C8-0DA3-4559-9EF3-D5A32656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F35-C666-43F7-8816-36B23FE3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02E-7481-4907-AE40-BEA5118A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3DE-4B34-4F8B-BD21-B17A8C48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AD0-F3D3-4BA2-A29D-4C6E3711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75B-B5F8-4A07-B367-09A9735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73B-AB7B-41D4-BE51-D683AA44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428-5E0D-48D1-9A3A-7BA9DAE4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C5A-6FF4-4E65-8E94-A8874E4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8B033-E09B-422D-9DDA-3D55730FA3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