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08360"/>
        <c:axId val="5050168"/>
      </c:barChart>
      <c:catAx>
        <c:axId val="5108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0168"/>
        <c:crosses val="autoZero"/>
        <c:auto val="1"/>
        <c:lblAlgn val="ctr"/>
        <c:lblOffset val="100"/>
        <c:noMultiLvlLbl val="0"/>
      </c:catAx>
      <c:valAx>
        <c:axId val="5050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8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44AC-00D0-4FEA-82D3-A68E6CEE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27D-7A88-42F3-BB9D-676AA8D0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5C2-B7B2-43E2-8D35-D3558AA1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E4E-02D5-4782-AAA5-95F76C58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03D-1D64-4A9B-9420-FDD7D66D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10A-7843-4474-BACF-C7D86DE9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F993-C851-4FF0-B851-68F70463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B2D-BCC2-4CA2-949D-207C91FC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D65-856F-47B2-9EAC-B6A1C255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1BA-5C73-4D95-9955-793884E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BDA-F8E7-4AE2-976E-B05F6F69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8B2-06D5-47E6-9431-5B403B6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FD6AA-2CB2-4641-8512-F829A3A955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