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67458"/>
        <c:axId val="83722279"/>
      </c:barChart>
      <c:catAx>
        <c:axId val="59667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22279"/>
        <c:crosses val="autoZero"/>
        <c:auto val="1"/>
        <c:lblAlgn val="ctr"/>
        <c:lblOffset val="100"/>
        <c:noMultiLvlLbl val="0"/>
      </c:catAx>
      <c:valAx>
        <c:axId val="83722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67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F3C-E3CC-4B33-88D9-B93B5FC9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824-134D-4E79-82F9-2596042B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BA9-09C5-46C0-8088-D91110BB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380-E48F-40A5-8F11-6FB21004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26F-1033-43D3-8A69-B83C7A94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AB1-D639-4F54-9C87-2E73C75F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0EC-A19A-45A5-981B-10C47E71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9B0-7977-4964-8733-E91440B9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BED-B508-414A-82DA-EAEB11DE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090-47EB-46A7-80DF-DFA20E6B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E2D-D928-416F-928A-04882782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4FD-5401-449F-85E5-88DFBBEF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250B1-308F-4A12-8DFF-0C6BCEAB5B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