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54404"/>
        <c:axId val="70446671"/>
      </c:barChart>
      <c:catAx>
        <c:axId val="87954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46671"/>
        <c:crosses val="autoZero"/>
        <c:auto val="1"/>
        <c:lblAlgn val="ctr"/>
        <c:lblOffset val="100"/>
        <c:noMultiLvlLbl val="0"/>
      </c:catAx>
      <c:valAx>
        <c:axId val="70446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54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9BC-28FA-44A5-81F1-5BFEB7DB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6F4-1C8B-45C0-A5C4-76E2DCD0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0BE-4368-4760-AB76-4BFE8E4B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732-02DC-4148-BF23-424C9972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4AD-9A00-4F29-B493-EEDE2CC1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BB9-5385-4F3E-9F01-73625353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744-684A-4CE4-B69A-3F321966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7D5-3B39-4E14-9EB5-D4BD1EEF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220-3235-450B-941F-CF6F96EF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A3B-3497-473E-AB65-CAF99FF1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F23-2259-41C2-94B6-2D3A581E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BCA-7716-456A-ABE1-DB7614F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06F20-17EF-4A97-8492-27FC5A9103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