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98064"/>
        <c:axId val="96262561"/>
      </c:barChart>
      <c:catAx>
        <c:axId val="14498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62561"/>
        <c:crosses val="autoZero"/>
        <c:auto val="1"/>
        <c:lblAlgn val="ctr"/>
        <c:lblOffset val="100"/>
        <c:noMultiLvlLbl val="0"/>
      </c:catAx>
      <c:valAx>
        <c:axId val="96262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98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0E9-31DA-4CD3-8E3D-EC86A7A7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129-6325-44A8-AEB5-7A302A01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824-702F-418C-BE9D-D0E171F3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0EA-5260-47C8-BAEA-5F67FE22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A34-B1E3-4801-BD09-B2CAF451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9C6-35EB-4D17-861A-3572514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F1C-6D39-4079-8C51-800B473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BED-26C1-4370-A49C-86750410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3DF-1D47-4E48-8FBA-F5B3DF31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8AE-3E8D-4024-8861-56D5C53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D22-5930-431B-A4EB-7E2BC177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BEF-8CB1-492D-B4B3-9910584C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899A5-0EC8-46DE-9889-645872219A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