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60307"/>
        <c:axId val="26067667"/>
      </c:barChart>
      <c:catAx>
        <c:axId val="78660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67667"/>
        <c:crosses val="autoZero"/>
        <c:auto val="1"/>
        <c:lblAlgn val="ctr"/>
        <c:lblOffset val="100"/>
        <c:noMultiLvlLbl val="0"/>
      </c:catAx>
      <c:valAx>
        <c:axId val="26067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60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B39-D1A6-4A0D-B992-02B5F6A0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90F-4051-4823-8A4A-9F65559E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6D7-DA12-4D27-ABB7-E6CB8E9D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395-C48C-401C-8170-B8C2C2D2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927-4D47-4881-8982-2EBB7B81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39F-283D-4F39-B27E-8011BB0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63E-6AFE-486B-8902-B76BC3D1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B5C-EDC1-4AEE-B8B0-75E54961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5C4-82D1-4729-ABF7-15E14F45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871-717D-4414-A892-DDB9FF72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53FC-231A-405A-8F14-1B29BE22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2BF-5488-4393-B385-4921F85A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5FA3F-F846-4A5B-9BDD-3B41C404CE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